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ankrea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arm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-Amylase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ktivität 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signifikan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5000 IU/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16280" y="54936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α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7" action="ppaction://hlinksldjump"/>
              </a:rPr>
              <a:t>-Amylase-Aktivitä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8" action="ppaction://hlinksldjump"/>
              </a:rPr>
              <a:t>  ↑ (signifikant über 5000 IU/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640" y="6153480"/>
            <a:ext cx="273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U = internationale Einheite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 = Lit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3760" y="549360"/>
            <a:ext cx="71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α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-Amylase-Aktivitä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 ↑ (signifikant über 5000 IU/l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ankrea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3"/>
            <a:endCxn id="10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nkre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nkreaskarzin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640" y="6153480"/>
            <a:ext cx="273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U = internationale Einheite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 = Lit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kute Gastroenter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ymph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15200" y="54936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α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-Amylase-Aktivitä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 ↑ (signifikant über 5000 IU/l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assiv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on Darm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40" y="6153480"/>
            <a:ext cx="273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U = internationale Einheite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 = Lit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55:04Z</dcterms:modified>
  <cp:revision>335</cp:revision>
  <dc:subject/>
  <dc:title>Vorstellung einer Neuheit</dc:title>
</cp:coreProperties>
</file>